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6878-28E4-436A-9D1A-C63BE7D61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FF41-3425-4167-A325-060043F12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D936-B6B1-4BC8-B175-F896856712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5ADC-BEF3-40E7-B379-7245148710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FCC-1B99-4240-B3B8-B3251077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A58-BBAE-4397-938F-46C92090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5AC-3033-4CC0-A3EA-F7B24811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0F0-73AE-4B35-BBA2-14DA026E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E440-2030-4AE8-82CB-9115CA9A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D204-6247-4C61-A9E5-6E101F38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58FD-502B-4874-907B-7A7F2BD7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697B-8B36-458F-A202-3545733F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0D6B-64A1-47E8-BF52-814B544A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5ED7-5F93-48A0-9008-B90DC9C4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7FAE-14F4-4385-B23A-BB19899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D6E-D07B-4403-BAA7-2557D6FF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D942-4890-4320-8C30-6C59071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A5DF-DE5E-4FF4-A260-8F68A2D6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CF68-2E9F-4B7E-AFDE-7ED5BE3A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2AC3-DF8F-445F-94D9-C8C9D777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5F82-D910-42E3-8224-D486F4E8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C6A-1D0A-4E5A-A7A5-E2CFF06B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023-C457-45F7-97BE-841DECD7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1EC-56BD-4CF7-96A2-111A30F0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A28-00A6-430E-94D5-CCF701F0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7CE-A4C1-48A2-9CB4-82D06797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BCF-556D-4B9F-B339-87C3E780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DED-3D63-4D92-98ED-649048E2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E194-6324-42D5-A668-023639F2D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EB02-7225-4363-B3FB-1A791B673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thics and Priv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ate Roess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" descr="Unknown-1.jpeg"/>
          <p:cNvPicPr/>
          <p:nvPr/>
        </p:nvPicPr>
        <p:blipFill>
          <a:blip r:embed="rId2"/>
          <a:stretch/>
        </p:blipFill>
        <p:spPr>
          <a:xfrm>
            <a:off x="4371840" y="99072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Unknown.jpeg"/>
          <p:cNvPicPr/>
          <p:nvPr/>
        </p:nvPicPr>
        <p:blipFill>
          <a:blip r:embed="rId3"/>
          <a:stretch/>
        </p:blipFill>
        <p:spPr>
          <a:xfrm>
            <a:off x="1752480" y="4876920"/>
            <a:ext cx="697248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General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fessor of Philosophy at the University of Amsterd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on freedom and autonomy, theories of privacy, justice and equality, and feminist theori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book project on Autonomy in Daily Lif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ard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msterdam Platform for Privacy Researc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PPR); program director of the research progra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hilosophy and Public Affai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research themes in Priva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thical and political perspective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we valu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nk between privacy and freedom/autonomy in different dimen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al norms of privacy as constitutive for social re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ole of privacy in democratic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themes/projects last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Ways in which new ICTs lead to transformations of society: the quantified self; social media; work relations; democrac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ocial and political dimensions of privacy (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Privacy and Social Interaction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thical problems in the Commodification of person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me publications on Privac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The Value of Priv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Polity Press, Cambridge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00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Privacies. Philosophical Evaluation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ed., Stanford UP, 2004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00000"/>
                </a:solidFill>
                <a:latin typeface="Verdana"/>
              </a:rPr>
              <a:t>Social Dimensions of Privacy: Interdisciplinary Perspectives</a:t>
            </a: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, edited with D. Mokrosinska, Cambridge UP 2015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Proj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ing Secret, Staying Private, Making Public: Digitization as an Ethical and Political Challe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ty, Autonomy and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Quantified Sel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g Data, finders-keepers ethics, and the question of property of personal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rrent project on Digitization as an Ethical and Political Challe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ing Secret: tension between the need for state secrets and claims to democratic transparency highlighted by recent acts of digitally enabled whistle-blow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ying Private: big data’s effects on privacy, its normative status, legal protection and technological safeguar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ing Public: increasing dependence of democratic deliberation on social media in terms of both democratic legitimacy and epistemic q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13:07:52Z</dcterms:created>
  <dc:creator>2007 Dell ETF</dc:creator>
  <dc:description/>
  <dc:language>en-US</dc:language>
  <cp:lastModifiedBy>Beate Roessler</cp:lastModifiedBy>
  <cp:lastPrinted>2015-06-01T09:47:35Z</cp:lastPrinted>
  <dcterms:modified xsi:type="dcterms:W3CDTF">2015-10-01T11:18:51Z</dcterms:modified>
  <cp:revision>184</cp:revision>
  <dc:subject/>
  <dc:title>Young People Online and the Social Value of Privacy</dc:title>
</cp:coreProperties>
</file>