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ED4-ECF9-48A5-80FD-69B1615A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9A9-4C99-4A63-AAA2-8DA8E83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478-859B-4F3B-A1C6-4D8D66D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445-421B-4DAE-98DA-222DDC0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22E-C2BE-4DAC-9C32-E28DEC3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EF6-2BBA-4744-AC98-3F34ED26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17D-3942-4D78-8D44-14A7253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02E-F039-4837-BE41-CD38DD3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B74-5706-4A37-AA97-B637878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BEC-78E7-4B46-83D7-6E8534EB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7FA-12E8-40EA-9E07-B0F36A88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A0E-29A3-4CEF-9630-7C7FF67D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40400"/>
            <a:ext cx="9156600" cy="420840"/>
          </a:xfrm>
          <a:prstGeom prst="rect">
            <a:avLst/>
          </a:prstGeom>
          <a:solidFill>
            <a:srgbClr val="b50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Norman Sadeh – CMU – www.normsade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788240" y="6419880"/>
            <a:ext cx="107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D5D47-E7D2-4304-AD97-180B2AD7798D}" type="slidenum"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6440400"/>
            <a:ext cx="9156600" cy="420840"/>
          </a:xfrm>
          <a:prstGeom prst="rect">
            <a:avLst/>
          </a:prstGeom>
          <a:solidFill>
            <a:srgbClr val="b50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Norman Sadeh – CMU – www.normsade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7788240" y="6419880"/>
            <a:ext cx="107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8FE06-221E-4E84-B594-134D669A3EE0}" type="slidenum"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5999040"/>
            <a:ext cx="9156600" cy="8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  <a:ea typeface="Georg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  <a:ea typeface="Georgia"/>
              </a:rPr>
              <a:t>Usable Privacy Polic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56600" cy="958680"/>
          </a:xfrm>
          <a:prstGeom prst="rect">
            <a:avLst/>
          </a:prstGeom>
          <a:solidFill>
            <a:srgbClr val="b50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Georgia"/>
              </a:rPr>
              <a:t>Norman Sadeh - CM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6440400"/>
            <a:ext cx="9156600" cy="420840"/>
          </a:xfrm>
          <a:prstGeom prst="rect">
            <a:avLst/>
          </a:prstGeom>
          <a:solidFill>
            <a:srgbClr val="b50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Norman Sadeh – CMU – www.normsade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788240" y="6419880"/>
            <a:ext cx="107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B64E4-C969-446C-A248-B750223718E3}" type="slidenum">
              <a:rPr b="1" lang="en-US" sz="24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095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68680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8B026-6872-4328-83FC-A04BE041259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normsadeh.org/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ableprivacy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ntent Placeholder 2"/>
          <p:cNvSpPr/>
          <p:nvPr/>
        </p:nvSpPr>
        <p:spPr>
          <a:xfrm>
            <a:off x="3213000" y="1600200"/>
            <a:ext cx="6105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essor of Computer Science, Carnegie Mell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-Director, MS Program in Privacy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-Founder, PhD Program in Societal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Norman Web picture_low_res_too_large.jpg"/>
          <p:cNvPicPr/>
          <p:nvPr/>
        </p:nvPicPr>
        <p:blipFill>
          <a:blip r:embed="rId1"/>
          <a:stretch/>
        </p:blipFill>
        <p:spPr>
          <a:xfrm>
            <a:off x="0" y="1600200"/>
            <a:ext cx="3094200" cy="2325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3213000" y="2641680"/>
            <a:ext cx="2718000" cy="156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3213000" y="2641680"/>
            <a:ext cx="271800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3213000" y="2641680"/>
            <a:ext cx="2718000" cy="156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Screen Shot 2015-10-01 at 11.17.03 PM.png"/>
          <p:cNvPicPr/>
          <p:nvPr/>
        </p:nvPicPr>
        <p:blipFill>
          <a:blip r:embed="rId5"/>
          <a:stretch/>
        </p:blipFill>
        <p:spPr>
          <a:xfrm>
            <a:off x="38160" y="4475160"/>
            <a:ext cx="317484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825240" y="623736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www.normsadeh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  <a:ea typeface="Arial"/>
              </a:rPr>
              <a:t>Research Interests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911160"/>
            <a:ext cx="892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User Privacy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understanding how complex, diverse and malleable these preferences – including machi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User Privacy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erests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Usable Privacy and Security, Machine Learning, Crowdsourcing, Natural Langu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ublic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llaboration in Multi-Disciplina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-25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  <a:ea typeface="Arial"/>
              </a:rPr>
              <a:t>Privacy Research Projects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874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PI on NSF SaTC Frontier Project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ble Privacy Poli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usableprivacy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automatically annotating privacy policies – combining NLP, ML and crowd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 Personalized Privacy U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privac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PI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ized Privacy Assis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– Can we build digital companions that help us navigate an otherwise overwhelming set of privacy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Apps and 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PI NSF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cy Nudg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117720"/>
            <a:ext cx="971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b50b1b"/>
                </a:solidFill>
                <a:latin typeface="Verdana"/>
                <a:ea typeface="Arial"/>
              </a:rPr>
              <a:t>Example of My Research: Mobile App Permission Preferences</a:t>
            </a:r>
            <a:endParaRPr b="0" lang="en-US" sz="3800" spc="-1" strike="noStrike">
              <a:solidFill>
                <a:srgbClr val="b50b1b"/>
              </a:solidFill>
              <a:latin typeface="Arial"/>
            </a:endParaRPr>
          </a:p>
        </p:txBody>
      </p:sp>
      <p:pic>
        <p:nvPicPr>
          <p:cNvPr id="137" name="Picture 8" descr="average-font.png"/>
          <p:cNvPicPr/>
          <p:nvPr/>
        </p:nvPicPr>
        <p:blipFill>
          <a:blip r:embed="rId1"/>
          <a:stretch/>
        </p:blipFill>
        <p:spPr>
          <a:xfrm>
            <a:off x="106200" y="102564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411120" y="4835520"/>
            <a:ext cx="43434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rs’ Average Preferen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f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uncomf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fig22-a-user-variance.png"/>
          <p:cNvPicPr/>
          <p:nvPr/>
        </p:nvPicPr>
        <p:blipFill>
          <a:blip r:embed="rId2"/>
          <a:srcRect l="0" t="9003" r="0" b="0"/>
          <a:stretch/>
        </p:blipFill>
        <p:spPr>
          <a:xfrm>
            <a:off x="4754520" y="1033560"/>
            <a:ext cx="4086360" cy="3954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1"/>
          <p:cNvSpPr/>
          <p:nvPr/>
        </p:nvSpPr>
        <p:spPr>
          <a:xfrm>
            <a:off x="5135400" y="4835520"/>
            <a:ext cx="37339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ance amo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ker yello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arger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Verdana"/>
                <a:ea typeface="Arial"/>
              </a:rPr>
              <a:t>Prediction Accuracy – 4 Profiles Only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pic>
        <p:nvPicPr>
          <p:cNvPr id="142" name="Picture 2" descr="Screen Shot 2014-05-29 at 5.12.26 AM.png"/>
          <p:cNvPicPr/>
          <p:nvPr/>
        </p:nvPicPr>
        <p:blipFill>
          <a:blip r:embed="rId1"/>
          <a:stretch/>
        </p:blipFill>
        <p:spPr>
          <a:xfrm>
            <a:off x="246240" y="1455840"/>
            <a:ext cx="8219880" cy="373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743040" y="572292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d Average”: Results obtained with “one-size-fits-all”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17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  <a:ea typeface="Arial"/>
              </a:rPr>
              <a:t>Mobile App Privacy Nudge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pic>
        <p:nvPicPr>
          <p:cNvPr id="145" name="Picture 3" descr="Screenshot_2014-09-30-15-10-57.png"/>
          <p:cNvPicPr/>
          <p:nvPr/>
        </p:nvPicPr>
        <p:blipFill>
          <a:blip r:embed="rId1"/>
          <a:stretch/>
        </p:blipFill>
        <p:spPr>
          <a:xfrm>
            <a:off x="2293920" y="722160"/>
            <a:ext cx="38768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23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50b1b"/>
                </a:solidFill>
                <a:latin typeface="Arial"/>
                <a:ea typeface="Arial"/>
              </a:rPr>
              <a:t>Selected References</a:t>
            </a:r>
            <a:endParaRPr b="0" lang="en-US" sz="4400" spc="-1" strike="noStrike">
              <a:solidFill>
                <a:srgbClr val="b50b1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6440" y="696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ble Privacy Polic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usableprivacy.org    -- including: http://www.usableprivacy.org/pub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App Privacy Nu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Almuhimedi, F. Schaub, N. Sadeh, I. Adjerid, A. Acquisti, J. Gluck, L. Cranor and Y. Agrawal, “Your Location has been Shared 5,398 Times! A Field Study on Mobile App Privacy Nudging”, in Proceedings of the 33rd annual SIGCHI Conference on Human Factors in Computing Systems (CHI2015). http://www.normsadeh.com/file_download/1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People’s Mobile App Privacy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Liu, J. Lin, N. Sadeh, “Reconciling Mobile App Privacy and Usability on Smartphones: Could User Privacy Profiles Help?”, Proceedings of the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national World Wide Web Conference (WWW2014),   April 2014. http://www.normsadeh.com/file_download/1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in, B. Liu, N. Sadeh, and J.I. Hong, “Modeling Users’ Mobile App Privacy Preferences: Restoring Usability in a Sea of Permission Settings”, 2014 ACM Symposium on Usable Security and Privacy (SOUPS 2014), July 2014. http://www.normsadeh.com/file_download/1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3:35:05Z</dcterms:created>
  <dc:creator>Fei</dc:creator>
  <dc:description/>
  <dc:language>en-US</dc:language>
  <cp:lastModifiedBy>Norman Sadeh</cp:lastModifiedBy>
  <cp:lastPrinted>2015-07-08T22:13:34Z</cp:lastPrinted>
  <dcterms:modified xsi:type="dcterms:W3CDTF">2015-10-02T03:39:02Z</dcterms:modified>
  <cp:revision>635</cp:revision>
  <dc:subject/>
  <dc:title>Paragraph Sequencing</dc:title>
</cp:coreProperties>
</file>