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4145040" y="-36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26000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4D0407-AD6D-46B9-B707-4A69CC07B30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7C4DF1-F68F-46C9-A1E4-181385976F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 and 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Google Sp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s about accountability for algorithmic decision making, breaking with the intermediary perspective on search eng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ile it imposes accountability via a right to request review in individual cases, it does so without providing a clear standard for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 actual standard for review will to a large extent end up being integrated (approximated) in the existing mix of algorithms shaping access to information in search eng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FB9B0A-34F1-403A-8536-8FB4C30775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BC1AA9-16DA-4473-9840-9ACB7AAC5A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0816-C968-478F-9214-46E46CA1A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240" y="40546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A4E6-ACF6-483C-94A2-E69C1C76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692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C169-7E03-43DF-BD39-8BEADB6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1840" y="190512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2800" y="190512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240" y="40546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1840" y="40546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2800" y="40546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92D8-EBCD-477E-8079-A1C8CE981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24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97E1-AA92-4977-9591-F1A9CB0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692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240" y="40546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240" y="40546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692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21840" y="190512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72800" y="190512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240" y="40546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21840" y="40546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72800" y="40546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3690-642B-4076-887D-377D649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CA7D-E72A-4933-B85C-0BEA8CC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44A6-CC04-4D90-8566-9A4A7D6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1F94-5D1D-43A7-8C58-F637F5C5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24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E11F-BF27-4F5F-8AAD-1505521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6920" y="40546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5FA8-2BD1-4517-9504-C0913FF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6920" y="190512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40546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4E68-42D6-4A12-9720-ECEAB23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BC62-7C06-4920-880B-92B9EE23AF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71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820908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Joris van Hobo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search Fellow, New York University, Information Law Institute (ILI), and Steinhardt Department for Media and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siting Fellow, New York University, Stern Business School, Center for Business and Human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filiate Researcher, University of Amsterdam, Institute for Information law (IV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  <a:ea typeface="Calibri"/>
              </a:rPr>
              <a:t>Research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arch engines and freedom of expression (Ph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termediary liability for selection intermedi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 protection law and policy (Recently WRR Stu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atlantic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999120" y="260280"/>
            <a:ext cx="193860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  <a:ea typeface="Calibri"/>
              </a:rPr>
              <a:t>Current Research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lgorithms and Accountability (NYU Conference 20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Security, Cryptography Policy (NYU Security Seminar, UNESCO Stu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 protection and the balancing of privacy and freedom of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 Brokers (NYU, Stern, UP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15:12:33Z</dcterms:created>
  <dc:creator>Joris van Hoboken</dc:creator>
  <dc:description/>
  <dc:language>en-US</dc:language>
  <cp:lastModifiedBy>Reviewer</cp:lastModifiedBy>
  <cp:lastPrinted>2002-03-20T11:25:06Z</cp:lastPrinted>
  <dcterms:modified xsi:type="dcterms:W3CDTF">2015-10-02T12:40:37Z</dcterms:modified>
  <cp:revision>383</cp:revision>
  <dc:subject/>
  <dc:title>PowerPoint-presentatie</dc:title>
</cp:coreProperties>
</file>